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7B3F-0B66-453A-9B67-D5BA313D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9F32-A34D-4D61-8C2C-7C966DE7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542A6-39E9-4DAD-BD30-86CFA04C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E9D5-2460-4692-A058-F2CD0DF1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0763-0770-429C-B1A0-612BA0DB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C6AF-9260-4EFD-9F1C-2B0F8E35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2352-7D08-4B77-B62F-113CCD31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06E5-A2E6-4920-88E0-8F31543B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787C-F6C2-49E5-941B-32A3D613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3F13-F752-4BC5-8DB8-04EC3571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8A1F-194B-44B5-9445-54DE53E9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0291-B5C0-4CF4-BDBC-3967BA3B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AF22-51B3-4D57-8532-B8D525B4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B824-02CC-4F20-8609-B904EAB5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7AC3-A089-48B0-A5BD-BA3749BA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A63C-69D6-4296-99B9-351284B7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1381-B3CA-46C6-8269-7FFE0A4C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C4CD-C2E7-4760-8CE2-B54A54E9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A4A6-E487-45CB-9927-B97FA9F8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42A66-56CA-45FC-84FD-8747E358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1A84-79E4-4522-8D17-5B9AE219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B3C0-C2BB-428F-A2A0-B616839C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3703B-8D7F-43AC-A67F-53183E3F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50CF-8154-40B9-A6FE-3EA32670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F1D9-B7C5-4AE7-8D7E-6BC8BF1456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9D1F-CC2B-43FF-91BE-94D7DDE70A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1988640"/>
            <a:ext cx="745164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«Огонь ошибок                     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не прощает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Разработка урока-презентации по основам пожарной безопасност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авило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сли огонь сразу не погас, немедленно убегай из дома в безопасное место. И только после этого позвони в пожарную охран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580000" y="1990800"/>
            <a:ext cx="26686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авило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не можешь убежать из горящей квартиры, сразу же позвони по телефону 01 и сообщи пожарным точный адрес и номер квартиры. После этого зови на помощь из окна соседей и прохож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3384720" cy="274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авило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пожаре дым гораздо опаснее огня. Большинство людей при пожаре погибает от дыма. Если чувствуешь, что стало трудно дышать, опустись на корточки или продвигайся к выходу ползком -внизу дыма ме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3995640" cy="40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авило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жаре в подъезде никогда не садись в лифт. Он может отключиться, и ты задохнёшься. Не теряй головы и не прыгай из окна. Помни: тебя обязательно спасут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76720" y="2276640"/>
            <a:ext cx="3529080" cy="27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зопасности формула е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о видеть, предвидеть, уч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возможности всё избе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, где надо, на помощь поз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627280" y="4292640"/>
            <a:ext cx="3313080" cy="18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жары очень опасны. При пожаре могут сгореть вещи, квартира и даже целый дом. Но главное, что при пожаре могут погибнуть люди. Запомни главные правила противопожарной без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55640" y="620640"/>
            <a:ext cx="793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а пожарной безопасности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4508640"/>
            <a:ext cx="35337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авило 1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балуйся дома со спичками и зажигалками. Это одна из причин пож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05440" y="2276640"/>
            <a:ext cx="3309840" cy="24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авило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ходя из комнаты или из дома, не забывай выключать электроприб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2066760"/>
            <a:ext cx="4174920" cy="338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авило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ставляй в лесу непотушенный костё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реги л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88000" y="1844640"/>
            <a:ext cx="33192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авило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 в коем случае не зажигай фейверки, свечи или бенгальские огни дома (лучше это делать со взрослы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59280" y="1844640"/>
            <a:ext cx="34578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авило 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деревне и на даче без взрослых не подходи к печке и не открывай печную дверцу (от выскочившего уголька может начаться пожар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08600" y="1484280"/>
            <a:ext cx="3516120" cy="43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Знает каждый граждан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Этот номер – 0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Если к вам придёт беда 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озвони скорей туд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А если нету телефона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озови людей с балкон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03280" y="476280"/>
            <a:ext cx="65232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в доме начался пожар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49800" y="1981080"/>
            <a:ext cx="303228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авило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сли огонь небольшой, можно попробовать сразу же затушить его, набросив покрывало или вылив ведро во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295128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08:50:07Z</dcterms:created>
  <dc:creator>Ната</dc:creator>
  <dc:description/>
  <dc:language>en-US</dc:language>
  <cp:lastModifiedBy>Ната</cp:lastModifiedBy>
  <dcterms:modified xsi:type="dcterms:W3CDTF">2010-04-24T12:19:24Z</dcterms:modified>
  <cp:revision>8</cp:revision>
  <dc:subject/>
  <dc:title>«Огонь ошибок не прощает»</dc:title>
</cp:coreProperties>
</file>